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735B-3A62-47D5-93F3-428AEC875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852-EEFB-4D08-B43D-F59B8D43B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643-1924-4C0E-AB39-7C1D12183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D2D-60C0-48D2-B012-5087523F84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422-A5CA-46BD-92E9-60FD19CBB7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C45-013E-4196-A0C0-FED997D0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7C6-C26D-45F9-BCF9-992C51C8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29C-CBDE-44BD-87DC-17CFD22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F39-231B-42B4-9837-B3215CE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862-CAAE-4B10-B186-14E72C6A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F821-61E4-43ED-8950-C0CEB470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9A6-49B7-4B4F-8F43-337AE6C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A162-1F95-403A-B94E-A39E5F2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798-9B5E-49A8-A425-928F045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BBB4-B4BB-4D71-B314-330704D9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0FF5-33BF-4CB9-95D8-FF6CB52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75-2B29-44CD-8FE0-0C94FAEE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6F32-159E-4C4B-8353-E8B13FE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D9E-982B-42CD-9385-DE290AC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21D-6009-4D5E-A747-70D371D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23E-1A0A-4EFE-9EA9-C4D7CF45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FC9-E056-4FCD-AF8B-CFC1797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B2B-B323-4926-A9CA-1199065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FEF-92F5-4C75-AE5F-DEFFF13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187-6A52-41D1-A098-D1A2010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661-C902-4BCD-9696-42473A4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623-1945-4729-BE99-BB2EEDCD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CD-BDA9-4057-A0BB-C9CD48B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BC1-E7F3-482C-A90D-7126D1B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D8F-D386-4462-9389-186AB2AEA2D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192-9C08-491A-A5C2-031DBF64438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good_178_1.jpg"/>
          <p:cNvPicPr/>
          <p:nvPr/>
        </p:nvPicPr>
        <p:blipFill>
          <a:blip r:embed="rId1"/>
          <a:stretch/>
        </p:blipFill>
        <p:spPr>
          <a:xfrm>
            <a:off x="428760" y="4929120"/>
            <a:ext cx="2286000" cy="1714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3" name="Рисунок 9" descr="eda_5.jpg"/>
          <p:cNvPicPr/>
          <p:nvPr/>
        </p:nvPicPr>
        <p:blipFill>
          <a:blip r:embed="rId2"/>
          <a:stretch/>
        </p:blipFill>
        <p:spPr>
          <a:xfrm>
            <a:off x="5214960" y="1714680"/>
            <a:ext cx="3718080" cy="2809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4" name="Рисунок 10" descr="iCAT97YUH.jpg"/>
          <p:cNvPicPr/>
          <p:nvPr/>
        </p:nvPicPr>
        <p:blipFill>
          <a:blip r:embed="rId3"/>
          <a:stretch/>
        </p:blipFill>
        <p:spPr>
          <a:xfrm>
            <a:off x="357120" y="1143000"/>
            <a:ext cx="139716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000160" y="16466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ки, жиры и углеводы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йдут века, эпохи, годы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 вам мы прикованы на век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вас немыслим человек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7" descr="fruits.jpg"/>
          <p:cNvPicPr/>
          <p:nvPr/>
        </p:nvPicPr>
        <p:blipFill>
          <a:blip r:embed="rId4"/>
          <a:stretch/>
        </p:blipFill>
        <p:spPr>
          <a:xfrm>
            <a:off x="7143840" y="214200"/>
            <a:ext cx="1762200" cy="13334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7" name="Рисунок 8" descr="63.jpg"/>
          <p:cNvPicPr/>
          <p:nvPr/>
        </p:nvPicPr>
        <p:blipFill>
          <a:blip r:embed="rId5"/>
          <a:stretch/>
        </p:blipFill>
        <p:spPr>
          <a:xfrm>
            <a:off x="3000240" y="2714760"/>
            <a:ext cx="1924200" cy="217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8" name="Рисунок 10" descr="fruktu3.jpg"/>
          <p:cNvPicPr/>
          <p:nvPr/>
        </p:nvPicPr>
        <p:blipFill>
          <a:blip r:embed="rId6"/>
          <a:stretch/>
        </p:blipFill>
        <p:spPr>
          <a:xfrm>
            <a:off x="357120" y="3000240"/>
            <a:ext cx="2381400" cy="1791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9" name="Рисунок 14" descr="med.jpg"/>
          <p:cNvPicPr/>
          <p:nvPr/>
        </p:nvPicPr>
        <p:blipFill>
          <a:blip r:embed="rId7"/>
          <a:stretch/>
        </p:blipFill>
        <p:spPr>
          <a:xfrm>
            <a:off x="3000240" y="5000760"/>
            <a:ext cx="2032200" cy="1685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425736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5000760" cy="186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Админ\Pictures\dizygotheca-elegantissima.jpg"/>
          <p:cNvPicPr/>
          <p:nvPr/>
        </p:nvPicPr>
        <p:blipFill>
          <a:blip r:embed="rId4"/>
          <a:stretch/>
        </p:blipFill>
        <p:spPr>
          <a:xfrm>
            <a:off x="5857920" y="3863880"/>
            <a:ext cx="2712960" cy="299412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6719760" cy="4907160"/>
        </p:xfrm>
        <a:graphic>
          <a:graphicData uri="http://schemas.openxmlformats.org/drawingml/2006/table">
            <a:tbl>
              <a:tblPr/>
              <a:tblGrid>
                <a:gridCol w="6719760"/>
              </a:tblGrid>
              <a:tr h="4909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ты, придя с мороз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ваешь крепкий ча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енько сахароз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чашке ложкой помеша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ноградную глюк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едовую фруктозу, |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олочную лакт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ят взрослый и малыш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 крахмалом и клетчатко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овсем-совсем несладки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же нас не удивишь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 устроена природ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тоже углеводы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Ж. Цобкал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341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Ответить на вопрос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менение в быту углевод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животные могут переваривать целлюлозу, а человек не может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 бумага  более предпочтительна для   жирных продуктов: масла, маргарина.  Почему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фриканские племена, индейцы, корейцы и китайцы довольно часто употребляют в пищу насекомых. Есть ли смысл в употреблении такой пищи? Почему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Разберите жизненные ситуации с точки зрения химии.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которые из модных сейчас пищевых добавок содержат пищевые волокна из целлюлозы.  Объясните с точки зрения химии, почему пища, содержащая пищевые волокна, создает ощущение сытости, хотя содержит мало калор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хлебная мякоть ноздревата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связь между клубнями картофеля и автопокрышкой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Химик не такой должен быть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торый дальше дыму и пеплу ничего не видит, а такой, который на основании опытных данных может делать теоретические выводы».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Михаил Васильевич Ломонос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Какие  продукты  содержат  и богаты  углеводами?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2" name="Содержимое 12" descr="конфеты3.jpg"/>
          <p:cNvPicPr/>
          <p:nvPr/>
        </p:nvPicPr>
        <p:blipFill>
          <a:blip r:embed="rId1"/>
          <a:stretch/>
        </p:blipFill>
        <p:spPr>
          <a:xfrm>
            <a:off x="3143160" y="2143080"/>
            <a:ext cx="221472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3" name="Рисунок 4" descr="кешью.jpg"/>
          <p:cNvPicPr/>
          <p:nvPr/>
        </p:nvPicPr>
        <p:blipFill>
          <a:blip r:embed="rId2"/>
          <a:stretch/>
        </p:blipFill>
        <p:spPr>
          <a:xfrm>
            <a:off x="357120" y="3357720"/>
            <a:ext cx="180972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4" name="Рисунок 5" descr="banany.jpg"/>
          <p:cNvPicPr/>
          <p:nvPr/>
        </p:nvPicPr>
        <p:blipFill>
          <a:blip r:embed="rId3"/>
          <a:stretch/>
        </p:blipFill>
        <p:spPr>
          <a:xfrm>
            <a:off x="6858000" y="4357800"/>
            <a:ext cx="185724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5" name="Рисунок 6" descr="baton_nar_1_mini.jpg"/>
          <p:cNvPicPr/>
          <p:nvPr/>
        </p:nvPicPr>
        <p:blipFill>
          <a:blip r:embed="rId4"/>
          <a:stretch/>
        </p:blipFill>
        <p:spPr>
          <a:xfrm>
            <a:off x="5572080" y="2000160"/>
            <a:ext cx="1714680" cy="16430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6" name="Рисунок 8" descr="кешью 2.jpg"/>
          <p:cNvPicPr/>
          <p:nvPr/>
        </p:nvPicPr>
        <p:blipFill>
          <a:blip r:embed="rId5"/>
          <a:stretch/>
        </p:blipFill>
        <p:spPr>
          <a:xfrm>
            <a:off x="1571760" y="1714680"/>
            <a:ext cx="1428480" cy="1428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7" name="Рисунок 9" descr="бананы жёлт.jpg"/>
          <p:cNvPicPr/>
          <p:nvPr/>
        </p:nvPicPr>
        <p:blipFill>
          <a:blip r:embed="rId6"/>
          <a:stretch/>
        </p:blipFill>
        <p:spPr>
          <a:xfrm>
            <a:off x="2357280" y="4286160"/>
            <a:ext cx="1739880" cy="1841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8" name="Рисунок 10" descr="натюрморт.jpg"/>
          <p:cNvPicPr/>
          <p:nvPr/>
        </p:nvPicPr>
        <p:blipFill>
          <a:blip r:embed="rId7"/>
          <a:stretch/>
        </p:blipFill>
        <p:spPr>
          <a:xfrm>
            <a:off x="7500960" y="1571760"/>
            <a:ext cx="1357200" cy="20714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9" name="Рисунок 13" descr="конфеты 2.jpg"/>
          <p:cNvPicPr/>
          <p:nvPr/>
        </p:nvPicPr>
        <p:blipFill>
          <a:blip r:embed="rId8"/>
          <a:stretch/>
        </p:blipFill>
        <p:spPr>
          <a:xfrm>
            <a:off x="357120" y="4572000"/>
            <a:ext cx="1571760" cy="20001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0" name="Рисунок 14" descr="конфеты.jpg"/>
          <p:cNvPicPr/>
          <p:nvPr/>
        </p:nvPicPr>
        <p:blipFill>
          <a:blip r:embed="rId9"/>
          <a:stretch/>
        </p:blipFill>
        <p:spPr>
          <a:xfrm>
            <a:off x="285840" y="1928880"/>
            <a:ext cx="106668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1" name="Рисунок 15" descr="шоколад.jpg"/>
          <p:cNvPicPr/>
          <p:nvPr/>
        </p:nvPicPr>
        <p:blipFill>
          <a:blip r:embed="rId10"/>
          <a:stretch/>
        </p:blipFill>
        <p:spPr>
          <a:xfrm>
            <a:off x="4357800" y="4214880"/>
            <a:ext cx="2071440" cy="23572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55640" y="1325520"/>
          <a:ext cx="7488360" cy="4064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4064040">
                <a:tc>
                  <a:txBody>
                    <a:bodyPr lIns="110520" rIns="110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 растения имеют зеленый цв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такое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ую роль играют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то является поставщиков СО2 для фотосинтез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в растениях называют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«фабрикой» или ( «Зеленой лабораторией»)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оглощения энергии солнечного света и образования органических вещест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 вывод можно сделать о фотосинтез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образуются в процессе фотосинтеза органические веще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дальше с этими веществами происходи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68360" y="1052640"/>
            <a:ext cx="79200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ая главная реакция планеты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С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6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=   С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6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Общая формула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40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Классификация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Прямоугольник 13" descr=""/>
          <p:cNvPicPr/>
          <p:nvPr/>
        </p:nvPicPr>
        <p:blipFill>
          <a:blip r:embed="rId1"/>
          <a:stretch/>
        </p:blipFill>
        <p:spPr>
          <a:xfrm>
            <a:off x="2968560" y="853920"/>
            <a:ext cx="318312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2"/>
          <a:stretch/>
        </p:blipFill>
        <p:spPr>
          <a:xfrm>
            <a:off x="5821200" y="2365200"/>
            <a:ext cx="3127680" cy="59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1" descr=""/>
          <p:cNvPicPr/>
          <p:nvPr/>
        </p:nvPicPr>
        <p:blipFill>
          <a:blip r:embed="rId3"/>
          <a:stretch/>
        </p:blipFill>
        <p:spPr>
          <a:xfrm>
            <a:off x="3176640" y="2365200"/>
            <a:ext cx="2693880" cy="59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2" descr=""/>
          <p:cNvPicPr/>
          <p:nvPr/>
        </p:nvPicPr>
        <p:blipFill>
          <a:blip r:embed="rId4"/>
          <a:stretch/>
        </p:blipFill>
        <p:spPr>
          <a:xfrm>
            <a:off x="109440" y="2365200"/>
            <a:ext cx="3151440" cy="59076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36"/>
          <p:cNvCxnSpPr/>
          <p:nvPr/>
        </p:nvCxnSpPr>
        <p:spPr>
          <a:xfrm>
            <a:off x="4572000" y="1714680"/>
            <a:ext cx="28231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>
            <a:stCxn id="127" idx="2"/>
          </p:cNvCxnSpPr>
          <p:nvPr/>
        </p:nvCxnSpPr>
        <p:spPr>
          <a:xfrm flipH="1">
            <a:off x="4523760" y="1725120"/>
            <a:ext cx="3708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Прямая со стрелкой 43"/>
          <p:cNvCxnSpPr>
            <a:stCxn id="127" idx="2"/>
          </p:cNvCxnSpPr>
          <p:nvPr/>
        </p:nvCxnSpPr>
        <p:spPr>
          <a:xfrm flipH="1">
            <a:off x="1685880" y="1725120"/>
            <a:ext cx="287532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ункции углеводов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Picture 2" descr="C:\Users\ЕГЭ 2019\Desktop\image_5e9eb2f41f2fe.png"/>
          <p:cNvPicPr/>
          <p:nvPr/>
        </p:nvPicPr>
        <p:blipFill>
          <a:blip r:embed="rId1"/>
          <a:stretch/>
        </p:blipFill>
        <p:spPr>
          <a:xfrm>
            <a:off x="571680" y="2071800"/>
            <a:ext cx="2709720" cy="332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Админ\Pictures\kartoshka.jpg"/>
          <p:cNvPicPr/>
          <p:nvPr/>
        </p:nvPicPr>
        <p:blipFill>
          <a:blip r:embed="rId2"/>
          <a:stretch/>
        </p:blipFill>
        <p:spPr>
          <a:xfrm>
            <a:off x="3571920" y="1928880"/>
            <a:ext cx="2962080" cy="2962080"/>
          </a:xfrm>
          <a:prstGeom prst="rect">
            <a:avLst/>
          </a:prstGeom>
          <a:ln w="38160">
            <a:solidFill>
              <a:srgbClr val="546422"/>
            </a:solidFill>
            <a:miter/>
          </a:ln>
        </p:spPr>
      </p:pic>
      <p:pic>
        <p:nvPicPr>
          <p:cNvPr id="137" name="Рисунок 2" descr=""/>
          <p:cNvPicPr/>
          <p:nvPr/>
        </p:nvPicPr>
        <p:blipFill>
          <a:blip r:embed="rId3"/>
          <a:srcRect l="0" t="0" r="-107" b="30680"/>
          <a:stretch/>
        </p:blipFill>
        <p:spPr>
          <a:xfrm>
            <a:off x="5643720" y="4786200"/>
            <a:ext cx="2682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гликоген 7.jpg"/>
          <p:cNvPicPr/>
          <p:nvPr/>
        </p:nvPicPr>
        <p:blipFill>
          <a:blip r:embed="rId1"/>
          <a:stretch/>
        </p:blipFill>
        <p:spPr>
          <a:xfrm>
            <a:off x="500040" y="642960"/>
            <a:ext cx="2428920" cy="1714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39" name="Picture 3" descr="C:\Users\Админ\Pictures\75805884_twostriped_grasshopper.jpg"/>
          <p:cNvPicPr/>
          <p:nvPr/>
        </p:nvPicPr>
        <p:blipFill>
          <a:blip r:embed="rId2"/>
          <a:stretch/>
        </p:blipFill>
        <p:spPr>
          <a:xfrm>
            <a:off x="3071880" y="642960"/>
            <a:ext cx="2819160" cy="2914560"/>
          </a:xfrm>
          <a:prstGeom prst="rect">
            <a:avLst/>
          </a:prstGeom>
          <a:ln w="28440">
            <a:solidFill>
              <a:srgbClr val="546422"/>
            </a:solidFill>
            <a:miter/>
          </a:ln>
        </p:spPr>
      </p:pic>
      <p:pic>
        <p:nvPicPr>
          <p:cNvPr id="140" name="Picture 2" descr="C:\Users\ЕГЭ 2019\Desktop\474920.jpg"/>
          <p:cNvPicPr/>
          <p:nvPr/>
        </p:nvPicPr>
        <p:blipFill>
          <a:blip r:embed="rId3"/>
          <a:stretch/>
        </p:blipFill>
        <p:spPr>
          <a:xfrm>
            <a:off x="6500880" y="642960"/>
            <a:ext cx="1781280" cy="31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upload.wikimedia.org/wikipedia/commons/6/6e/Natural_gum_of_plum_tree_01.jpg"/>
          <p:cNvPicPr/>
          <p:nvPr/>
        </p:nvPicPr>
        <p:blipFill>
          <a:blip r:embed="rId4"/>
          <a:stretch/>
        </p:blipFill>
        <p:spPr>
          <a:xfrm>
            <a:off x="785880" y="3571920"/>
            <a:ext cx="363204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5"/>
          <a:stretch/>
        </p:blipFill>
        <p:spPr>
          <a:xfrm>
            <a:off x="4643280" y="3857760"/>
            <a:ext cx="361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2:52Z</dcterms:created>
  <dc:creator>1</dc:creator>
  <dc:description/>
  <dc:language>en-US</dc:language>
  <cp:lastModifiedBy>USER</cp:lastModifiedBy>
  <dcterms:modified xsi:type="dcterms:W3CDTF">2021-02-26T12:00:17Z</dcterms:modified>
  <cp:revision>250</cp:revision>
  <dc:subject/>
  <dc:title>Слайд 1</dc:title>
</cp:coreProperties>
</file>